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4D73-B910-42FF-92C0-D3C79EBF4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FEBC-60F9-4FD9-A04A-D99DA415697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A0B-7F0C-44C8-9275-D6B3B8C0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245B-2B0C-49E4-A0E0-8D28D325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2B10-BDE1-4EBD-9326-CAC1C5C2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FF50-F3E7-4CC1-8F46-55B5B41C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BE0D-42FE-4B8F-BD31-B0B4FC45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CA41-5242-4005-BEB3-F4DDF76E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AAD9-5037-4BF5-8272-2FCA9011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A145-7841-42C3-9F11-308313C0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4508-2D2E-4CEB-B199-FDDFBD04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5B93-0A1F-4E73-A05D-ADBCFAB4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3FBC-1CDA-4BC6-B887-1C3788CF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403F-90C4-459D-9007-5A2D0A2C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14CB-7B1B-480A-BEAC-B0EE692B2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36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МАСТЕР АКАДЕМСКЕ СТУДИЈЕ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Мастер менаџмент у систему здравствене заштите</a:t>
            </a:r>
            <a:br>
              <a:rPr sz="2400"/>
            </a:b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ЛИТИКА И СИСТЕМ ЗДРАВСТВЕНЕ ЗАШТИТЕ</a:t>
            </a:r>
            <a:br>
              <a:rPr sz="2400"/>
            </a:br>
            <a:br>
              <a:rPr sz="2400"/>
            </a:b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ставна јединица бр. 7</a:t>
            </a:r>
            <a:br>
              <a:rPr sz="2400"/>
            </a:br>
            <a:br>
              <a:rPr sz="2400"/>
            </a:b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јам и врсте трошкова у здравственом систему</a:t>
            </a: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533520" y="533520"/>
            <a:ext cx="78562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рсте трошкова и клиничких исхода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456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рошкови у фармакоекономији се односе на укупне потрошене ресурсе током пружања здравствене заштите (то обухвата и креирање и пружање здравствене услуг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е израчунавања трошкова при фармакоекономској евалуацији неопходно је да се прво дефинише перспектива из које се посмат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злог за дефинисање перспективе је што одређени појмови из једне перпсективе представљају трошак а из друге не представља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рсте трошкова и клиничких исхода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мер 1: трошкови транспорта пацијента су трошкови пацијента и друштва али нису трошкови из перспективе Министарства здрављ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мер 2: Исплате трошкова плата радницима су трошкови за Владу, за самог пацијента су добитак док за друштво не представљају ни једно ни друг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рсте перспективе из којих се могу трошкови посматра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руш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инистарства ( првенствено се мисли на министарство здравља а потом и на друга министарств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ла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ацијен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соба која плаћа услуг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олн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ећина фармакокеономских препорука препоручује вршење евалуације из перспективе онога ко плаћа здравствене услуг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новна подела трошкова је н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ирект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индирект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Индиректни тршкови-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рошкови који не проистичу директно из администриране терапије,  из дијагностичког процеса или пружене здравствене услуг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директни трошкови најчешће представљају административне трошкове попут трошкова набављања или сервисирања опреме, обуке медицинског особља, тршкове грејања или осветљења просториј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5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мер издавања лекова у апотеци подразумева дистрибуцију истих из веледрогерије након чега се издају пацијен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 наведеном ланцу су присутни и додатни трошкови попут безбедног складиштења лекова, припреме или справљења лекова, образовање пацијента као и терапијски мониторин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ако неки од наведених трошкова могу лако да се распореде на одређене лекове (нпр. трошкови припремања за и.в. инјекције ) се воде као општи административни трошкови јер нису директно последица употребе неког ле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14475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ректни трошкови су они трошкови који су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посредно везан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 пружање здравствене заштит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гу да се поделе н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ректне трошкове лечењ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нпр. плате лекара и медицинских сестара, цене лекова, трошкови лабораторијских испитивања неопходних за интервенцију 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ректне трошкове нездравствених услуг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нпр. трошкове транспорта пацијента до здравствене установе и наза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456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директни здравствени трошков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у будући трошкови здравствене заштите тј.они у добијеним годинама живо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иректни нездравствени трошкови су везани за смањену продуктивност због болести, неспособности или смр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и се обично израчунавају на основу бруто зараде запослени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о се анализа врши из перспективе друштва у целини, требало би обухватити и индиректне трошкове али се они често занемаруј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иксни, релативно фиксни и варијабилни трошк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ксни трошкови су они трошкови који су потпуно непроменљиви и независни од  интензитета и активности пружања здравствених услуг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 су трошкови одржавања и чувања, разне закупнине, доприноси, плате лекара и медицинских сестара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4560" y="14475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иксни, релативно фиксни и варијабилни трошко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лативно фиксни трошков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 такви трошкови који су фиксни за одређени ниво активности и чија висина за тај ниво остаје непромењен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ђутим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да ниво активности прелази или пада испод ових датих нивоа појављују се нови фиксни трошкови који изазивају раст укупних фиксних трошков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ример, може да дође до повећања капацитета пружања услуга болнице због повећања броја инфаркта миокарда па долази до повећања трошкова, као што су плате медицинских сестара, повећања режијских трошкова и сличн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лативно фиксни трошкови су можда највише присутни трошкови са којима се суочавају здравствене службе, на пример после 20 или 30 година временског хоризонта, сви "фиксни" трошкови могу се рачуна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о "релативно фиксни"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аријабилни (променљиви) трошков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 они трошкови који зависе директно од промена у актив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 су трошкови било које здравствене технологије, као на пример медицинске игле - које се могу користи само једном, лекови и други потрошни материјал који се  користи у терапиј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купни трошков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стављају збир фиксних и варијабилних трошко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фикасност, клинички ефекат и стварна корист од л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фикасно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fficacy)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 ли лечење постиже нешто, тј. да ли "“ради”"? Процењује се у клиничким студиј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линички ефека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linical effectiveness)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епен у коме лек постиже ефекат у клиничкој прак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тварна корист од лек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fficiency)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 ли је лек вредан цене коју за њега плаћају појединци и друштво? Процењује се фармакоекономским студиј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осечни трошков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Укупни трошков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ошкови производње одређеног нивоа аутпу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Просечни трошкови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се добијају дељењем укупних трошкова за терапију укупном количином пружених терапијских јединица, на пример бројем пацијената који су на инфузији (однос укупног трошка и количине аутпут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56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крементални и маргинални трошк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крементални трошков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љају разлику између две терапије (тј. између испитиване терапије и компаратор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Маргинални (гранични)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рошков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едстављају трошкове пружања једне додатне јединице услуге (нпр. продужавања хоспитализације за један дан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аргинални трошак нам показује пораст укупног трошка који настаје због производње додатне јединице аутпу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9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рмини "маргинални" и "инкрементални" се често међусобно замењују у литератур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ргинални трошкови односе се на обезбеђивање једне екстра јединице робе или услуг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рмин "инкрементални" означава разлику у трошковима или ефектима између два програма који се пореде у економској евалуациј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оцењивању уштеде у трошковима потребно ј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зети у обзир и просечне и маргиналне трошков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ошак опортунитета (“могућности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ошак опортунитета је термин који се користи за изражавање вредности ″следеће најбоље″ алтеративне активности или добра кога смо се одрек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ошак опортунитета се може појавити само у свету у коме су ресурси који су на располагању за задовољење потреба ограничени, тако да се све жеље не могу задовољи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 су ресурси неограничени, једна активности не би се одвијала на рачун друге - све би се могле реализова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ошак опортунит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ортунитетни трошак увек представља неку пропуштену корист, неки пропуштени приход, зараду насталу због донете одлуке о коришћењу једне уместо неке друге робе, једног уместо неког другог ресурса, на алтернативни начи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пример, уколико можемо да бирамо између две ефикасне терапије А и Б, а располажемо количином новца за једну. Ако одлучимо да се средства употребе за терапију А, а не за терапију Б, трошак опортунитета финансирања А представља онај ниво користи терапије Б којег се одричемо изабравши терапију 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аглашавање трошкова и врем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сконтна стопа (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ng. Discount rat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3-6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Discount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проистиче из постајањем потреба за добијањем услуге из домена  здравственог система одмах а уз одлагање плаћања исте  (3-6%)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лни исхо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у у питању Ц/Е анализе, исходи треба да буду изражени кроз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одине живота кориговане за квалитет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роничне болести, акутне болести са дугорочним последицама ), релевантни краткорочни исходи код акутних ст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ефинисање основних појм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купна вредност свих ресурса који се утроше у производњи робе или услуге представља њихове трошков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engl. cos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Цена је збир трошкова робе или услуге плус профи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(engl. charge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Врсте трошкова у фармакоекономиј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ректни – трошкови које фонд здравственог осигурања директно плаћа (лекови, плате здравствених радника, материјални трошкови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иректни – трошкови које плаћа пацијент или друштво (губитак радних дана, губитак продуктивности, итд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ухватљиви (енгл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angibl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– бол, страх, забринутост пацијента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Врсте трошкова у фармакоекономиј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иксни трошкови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рошкови који се не мењају са променом количине услуга или производа у краћем временском периоду (типично током 1 годин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аријабилни трошкови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ошкови који се мењају са променама у обиму услу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Врсте трошкова у фармакоекономиј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ошкови могућност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Opportunity cost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изгубљена корист ако се изабере једна терапија уместо дру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сновни појмови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Корист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(енгл.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enefit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рене "“природним"” јединицама (нпр. број спречених случајева шлога, број залечених улкуса, број излечених прелома потколенице, итд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рене јединицама “"корисности"” (енгл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tility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 за пацијента, тј. колико се при преласку из једног стања здравља у друго мења задовољство пацијента, односно његов осећај благостања. “Корисност” се обично изражава квалитетом живо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сновни појмови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идружена доб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дружена добит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ociated economic benefi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- је добит коју има друштво, изражено у новцу, као последицу оздрављења пацијен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пр. услед повратка на посао, друштво добија кроз вредност коју бивши болесник сада ства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ошкови и добити у временској перспекти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неке третмане се мора одмах инвестирати велика сума (нпр. операција на коронарним артеријама), док код других улагање траје више година. Када се упоређују трошкови таквих третмана треба узети у обзир како се трошкови мењају у времену (нпр. урачунати инфлациј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2T07:19:51Z</dcterms:created>
  <dc:creator>Admin</dc:creator>
  <dc:description/>
  <dc:language>en-US</dc:language>
  <cp:lastModifiedBy>User</cp:lastModifiedBy>
  <dcterms:modified xsi:type="dcterms:W3CDTF">2019-02-02T06:58:41Z</dcterms:modified>
  <cp:revision>39</cp:revision>
  <dc:subject/>
  <dc:title>Интегрисане академске студије фармације  Д03 ФАРМАКОЕКОНОМИЈА   Увод у фармакоекономију  Историјат и теоретске основе</dc:title>
</cp:coreProperties>
</file>